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F73-9EF3-450D-8162-C7925FE4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E66A-A956-43C6-A220-E8F3A15D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07C-C41F-41B1-BD2E-765984CA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626C-2AF6-47CB-AFE9-88CB59B4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4E9-7499-40B1-A34F-6FDC6588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282-2038-47A9-86F6-0039CAA2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5683-7C48-4568-8E18-CADC7297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E40-95AC-4584-B78D-8C3BD919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EF6-ABD4-4CAD-A4C3-074C9E4F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58D-9A8B-4297-A590-3697379B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0087-6890-4500-BC3B-F7DCB2C1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D5D-8AB9-4C0B-B24C-5697F6F8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9BE4-7B8E-4AB6-A5BE-5AE82053C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990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90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250524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Lei nº 3.904, de 13/09/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6389640"/>
            <a:ext cx="61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Black"/>
              </a:rPr>
              <a:t>Publicação  DODF  –           Suplemento ao nº 177,                      de 14/09/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SETEMBRO D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9200" y="163368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trito 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67040" y="631800"/>
          <a:ext cx="115236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7040" y="631800"/>
                    <a:ext cx="11523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05273-8</cp:lastModifiedBy>
  <dcterms:modified xsi:type="dcterms:W3CDTF">2006-09-20T15:28:32Z</dcterms:modified>
  <cp:revision>18</cp:revision>
  <dc:subject/>
  <dc:title>Slide 1</dc:title>
</cp:coreProperties>
</file>